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8100-9ACE-4A87-BC06-CC9CE0F4B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1E82-8361-4452-9A17-0CFD63679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E1BA-6425-4EA4-8720-EFCB44496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0BD6-6CDA-40D5-BDEE-5C5C6C9F2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6F4B-353D-4C1F-B6A7-C15B28A25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4941-3382-43B4-AF02-7267D5912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D248-E278-4104-A30B-3C11A00A0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150D-BA58-4A5D-828D-D9C523339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21DB-F988-4B94-8F88-A7ABAC851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B506-A0C1-47CB-AAA6-1E7F9B9C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30FF-69B3-4B14-B297-BE1C1F6A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A045-1C5E-4A71-A2A5-353FECA4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4FCEB-CCDB-490F-AE1B-CF6B69E7AD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68440" y="1557360"/>
            <a:ext cx="7567560" cy="3743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014200" y="141300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/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4200" y="1844640"/>
            <a:ext cx="893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oling Capac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400" y="2052720"/>
            <a:ext cx="148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oling Power Consum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4920" y="2473200"/>
            <a:ext cx="893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eqting Capac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06560" y="3132000"/>
            <a:ext cx="326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Times New Roman"/>
              </a:rPr>
              <a:t>S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3840" y="2643120"/>
            <a:ext cx="1477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e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a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g Power Consum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47760" y="3484440"/>
            <a:ext cx="47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/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4200" y="3854520"/>
            <a:ext cx="893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oling Capac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400" y="4062240"/>
            <a:ext cx="148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oling Power Consum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920" y="4483080"/>
            <a:ext cx="893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eqting Capac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06560" y="5141880"/>
            <a:ext cx="326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Times New Roman"/>
              </a:rPr>
              <a:t>S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840" y="4653000"/>
            <a:ext cx="1477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e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a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g Power Consum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13:59:48Z</dcterms:created>
  <dc:creator>kde</dc:creator>
  <dc:description/>
  <dc:language>en-US</dc:language>
  <cp:lastModifiedBy>Yanagitani Kazuta</cp:lastModifiedBy>
  <dcterms:modified xsi:type="dcterms:W3CDTF">2009-12-16T14:34:40Z</dcterms:modified>
  <cp:revision>5</cp:revision>
  <dc:subject/>
  <dc:title>PowerPoint プレゼンテーション</dc:title>
</cp:coreProperties>
</file>